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48609"/>
        <c:axId val="26218379"/>
      </c:barChart>
      <c:catAx>
        <c:axId val="85248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18379"/>
        <c:crosses val="autoZero"/>
        <c:auto val="1"/>
        <c:lblAlgn val="ctr"/>
        <c:lblOffset val="100"/>
        <c:noMultiLvlLbl val="0"/>
      </c:catAx>
      <c:valAx>
        <c:axId val="26218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48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531-FFBC-463E-8456-E8079644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BA0-8C6C-43DE-BE8B-D0516501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282-6257-4AB0-AEBC-7DD857FB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0BD-013B-4363-9770-FD2AC2CA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A94-B733-4519-B690-F881B401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76D-D8DB-4B89-8924-629D103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7D8-CD88-4FCD-B19F-86F7EC55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C4D-5A16-410E-B213-F2BB99F1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056-6728-47A7-B22F-692F713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256-479E-468C-9F32-F28E8C57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C4D-DE3A-4431-A076-1B7F0D06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6DC-552F-43A0-B9D6-EAA53A7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301CA-05A8-4EA2-8BC4-B1780634DB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