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93485"/>
        <c:axId val="90415880"/>
      </c:barChart>
      <c:catAx>
        <c:axId val="21793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5880"/>
        <c:crosses val="autoZero"/>
        <c:auto val="1"/>
        <c:lblAlgn val="ctr"/>
        <c:lblOffset val="100"/>
        <c:noMultiLvlLbl val="0"/>
      </c:catAx>
      <c:valAx>
        <c:axId val="90415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93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92E-85F0-42E2-A212-3DF2228A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165-9471-4D2B-83E1-33F1CACD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449-B913-41AC-B905-39F23005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F67-5FDB-49CE-8477-FBB2CE05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0E4-B352-48BA-A19E-DA16BABB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396-35A1-4B13-9439-4E21E2FA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CAD-F540-4491-A271-DD70FFBA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DE11-2229-4906-A37F-7A1E7D50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B59-6725-4C81-B36A-00FBD36A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D18-FE60-457A-86F7-93B8222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E3C-66C8-4E26-9100-E24C4E3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CCA2-E16C-49A4-8643-749290C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2663-9C6F-49E2-995D-ADE32AB8E6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