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694"/>
        <c:axId val="55437463"/>
      </c:barChart>
      <c:catAx>
        <c:axId val="75016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37463"/>
        <c:crosses val="autoZero"/>
        <c:auto val="1"/>
        <c:lblAlgn val="ctr"/>
        <c:lblOffset val="100"/>
        <c:noMultiLvlLbl val="0"/>
      </c:catAx>
      <c:valAx>
        <c:axId val="55437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6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341-D3C8-4B96-B755-D6FAEB00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03C-4D80-47E7-B8C5-C58A98D3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7B8-2163-4C44-B371-E17EEB1B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80A-D2DE-47FB-817E-8E3A83B5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30A-2E97-4897-A861-65A99261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81D-9E19-4681-933C-40167A0F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6BB-5DA3-4C81-BB4E-413ECD0A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0B6-197A-4FE6-9CC5-AB5B0F94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9FD-18F8-4B9E-AF80-BADCD903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910-8968-45C4-9E25-4BD9079D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A35-1E70-466E-8FD6-3FD35B64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74C-85BF-40C9-B0D7-E2ECAF7D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B398D-BFE1-4DAA-A89A-41644016E9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