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64384"/>
        <c:axId val="62217176"/>
      </c:barChart>
      <c:catAx>
        <c:axId val="85664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17176"/>
        <c:crosses val="autoZero"/>
        <c:auto val="1"/>
        <c:lblAlgn val="ctr"/>
        <c:lblOffset val="100"/>
        <c:noMultiLvlLbl val="0"/>
      </c:catAx>
      <c:valAx>
        <c:axId val="62217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64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CD0-9527-416B-8B69-BDF4DD45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C3D-B944-47C3-B8E6-E222189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34C-CA82-47C6-875D-EAE3F7E2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125-7852-4FC1-9CFE-C89DD344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E00-A313-4641-8B6C-3337AD17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FEB-CE84-4E48-8792-F26668DA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0B8-0D10-4072-B006-8EFABA4B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66E-0E27-4EF8-856B-8C6BCA77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F83-7217-4184-BC72-8D129E38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04B-2590-4065-B72C-138ADDD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3B0-CA67-452F-AFA8-F226CFF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033-83F6-4FA1-8B0D-7FB30A0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C65F6-B958-478F-8DB0-152977DA11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