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23703"/>
        <c:axId val="72431022"/>
      </c:barChart>
      <c:catAx>
        <c:axId val="39623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31022"/>
        <c:crosses val="autoZero"/>
        <c:auto val="1"/>
        <c:lblAlgn val="ctr"/>
        <c:lblOffset val="100"/>
        <c:noMultiLvlLbl val="0"/>
      </c:catAx>
      <c:valAx>
        <c:axId val="72431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23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931-ACC8-447A-BC66-1E29DAD5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912-3ED3-4898-8C33-FEB6B7B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4FA-D5EE-4498-A0E8-C612FB7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A50-A5F3-489B-8AC9-5345B9E9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CF5-B088-419D-8146-237A8C3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EF3-835A-4220-B609-CA213BC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571-ED4E-4E57-A6E5-E9B93832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A48-57E0-40B1-9C86-82F3ACB1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F84-7D54-44C1-A109-04A4910D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A3B-FD34-4A67-B100-484961B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AE4-44B1-4222-8EFD-FCCF406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53F-5554-479F-8EB4-D2C8210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9DEF-33F8-4A3C-9DA3-3B0F29FFF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