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10388"/>
        <c:axId val="1206127"/>
      </c:barChart>
      <c:catAx>
        <c:axId val="66210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6127"/>
        <c:crosses val="autoZero"/>
        <c:auto val="1"/>
        <c:lblAlgn val="ctr"/>
        <c:lblOffset val="100"/>
        <c:noMultiLvlLbl val="0"/>
      </c:catAx>
      <c:valAx>
        <c:axId val="1206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10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F8B-0358-4CDD-ADE7-A0F687BA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0CA-FD6C-4479-AF98-8092705E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925-E2A8-4002-9167-F41E7DB8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5E5-FB39-469F-87D8-BD53A5F2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E2D-D5AF-4F8E-B52B-E164D0C4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3C5-A4D6-4BE4-A372-41E1DE1A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4A0-A155-4A44-9CF8-6398C4FD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088-7889-4E57-A064-200739B1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B4D-685A-46E1-9DA2-23F92480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05D-9324-4789-8535-05765081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5A0-FD99-4047-A512-1E2309C8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62C-FC32-475D-8B95-6F9BF3C8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4F822-DC5C-40C9-AEDE-F4C7C801B3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