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45245"/>
        <c:axId val="18946220"/>
      </c:barChart>
      <c:catAx>
        <c:axId val="93745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46220"/>
        <c:crosses val="autoZero"/>
        <c:auto val="1"/>
        <c:lblAlgn val="ctr"/>
        <c:lblOffset val="100"/>
        <c:noMultiLvlLbl val="0"/>
      </c:catAx>
      <c:valAx>
        <c:axId val="18946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45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A7F-D4EF-48ED-B4F0-A513E288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9DD-D8F4-4F31-89EF-2CFD080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FA3-FCB8-4A7E-8DF4-9BDF5575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F17-8BA8-406A-B402-72DA0F4F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306-5244-4C5F-9E39-F9DCB916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C09-6433-4417-94F4-3F0BCED2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074-D1BA-4B94-9D7B-A2158A32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8F9-418F-4182-9422-2CEE66F3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5C3-4CDD-4FB2-BC87-CB9B6C2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7AC-D9CA-4475-8E04-73CCB4BF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4D0-9058-40A6-945C-75A0FC79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D52-F1F4-4A75-8E34-3D9A26E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1354E-21FB-45F2-8A33-D51E0B9E12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