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81314"/>
        <c:axId val="1124870"/>
      </c:barChart>
      <c:catAx>
        <c:axId val="61881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4870"/>
        <c:crosses val="autoZero"/>
        <c:auto val="1"/>
        <c:lblAlgn val="ctr"/>
        <c:lblOffset val="100"/>
        <c:noMultiLvlLbl val="0"/>
      </c:catAx>
      <c:valAx>
        <c:axId val="1124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81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675-55A9-42B4-83D6-76716213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5F7-ABC5-4852-848B-2AD77D25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92B-F787-41CC-B05C-5291686F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909-4C74-430C-BF69-5C5C46B2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100-DB15-46D2-9C6C-07E7F266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28A-9578-4824-B615-6A09581C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E8B-16B7-4552-ACDF-EE9A0C09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E1D-A0B5-4370-ABD8-ADF958FE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109-1654-4311-B60F-417E1380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0589-A94E-45E9-9F73-9C040E0D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D1B-8401-4D4B-B8F4-6BCB73F9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8E3-C077-4166-9024-104F164B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13976-0306-490F-A2FD-ED6209D869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