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70913"/>
        <c:axId val="43699873"/>
      </c:barChart>
      <c:catAx>
        <c:axId val="935709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99873"/>
        <c:crosses val="autoZero"/>
        <c:auto val="1"/>
        <c:lblAlgn val="ctr"/>
        <c:lblOffset val="100"/>
        <c:noMultiLvlLbl val="0"/>
      </c:catAx>
      <c:valAx>
        <c:axId val="4369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709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276-17E7-4A02-B480-9F85557B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983-1AAE-4A13-8EA0-E6C743DD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59A-0F83-4B32-9DC8-4B0C564B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BE8E-7EA3-4F26-B56D-974A9D64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C88D-8EF9-46CD-918E-F5146AC8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73B7-DAA1-4B76-8091-C131AF28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CC21-FCF2-4C73-9424-E1F43F00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08D2-5E1A-4988-A9CB-49200808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3344-813F-4335-8BDB-5553E3C1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3609-1B49-4B8A-BB0F-A4EBF1B7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BF75-0B2B-4FA7-B4C1-A912548D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79E-6BCD-406F-9F6C-FDF86DDA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2BDFA-B43F-4704-BDFB-E945A52EBC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