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7437831"/>
        <c:axId val="2798924"/>
      </c:barChart>
      <c:catAx>
        <c:axId val="4743783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98924"/>
        <c:crosses val="autoZero"/>
        <c:auto val="1"/>
        <c:lblAlgn val="ctr"/>
        <c:lblOffset val="100"/>
        <c:noMultiLvlLbl val="0"/>
      </c:catAx>
      <c:valAx>
        <c:axId val="279892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43783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37BFA-88B1-4B02-98C4-BD35897F3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DC1F5-8C9C-43FC-9149-3F6E2005A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F2184-CC5D-43B7-A912-8AABFF046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7E810-9382-44F1-97C2-60C60D5F0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5BC69-2BF7-4A81-8310-0BAB1E136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91556-30EB-4482-8523-8DA11F809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961A2-3782-43DB-A5BF-388851C21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6A3BB-D24B-4C13-B73C-F792FBE3C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01F43-5DF6-4C37-BF9F-0EEEA151D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87D47-42A3-4368-8F99-641756FC0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06FF7-EC3A-4D26-AC3D-C931E29D6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C1E62-72C3-4C01-B616-1FA462F2F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D88C11-AF28-4DBA-A673-65ED6BCB92E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