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96681"/>
        <c:axId val="8515464"/>
      </c:barChart>
      <c:catAx>
        <c:axId val="188966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5464"/>
        <c:crosses val="autoZero"/>
        <c:auto val="1"/>
        <c:lblAlgn val="ctr"/>
        <c:lblOffset val="100"/>
        <c:noMultiLvlLbl val="0"/>
      </c:catAx>
      <c:valAx>
        <c:axId val="85154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966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565-DF88-4A24-BE40-8D531B9A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088-BBE0-47F8-BC53-C17D56A9E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10DE-282B-4DA5-A210-5BBB670C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1B01-9950-4947-BEAE-8A735F16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29FB-7256-408D-8DED-8A22FB4D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877-306F-471C-A631-89702669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3431-CEEF-4A37-B297-26250331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E4F-4890-49B0-B3E0-A22181A6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F88-A4AA-4001-BBF3-7E15D4ED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1F95-E9B9-4C95-8522-5233D47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B3CF-309C-4545-A602-56197FB73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09D-9AD6-43B8-B08E-BB07C516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5BA71-81F8-4937-967E-3C8EA5BD9A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