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8590493"/>
        <c:axId val="65011194"/>
      </c:barChart>
      <c:catAx>
        <c:axId val="7859049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011194"/>
        <c:crosses val="autoZero"/>
        <c:auto val="1"/>
        <c:lblAlgn val="ctr"/>
        <c:lblOffset val="100"/>
        <c:noMultiLvlLbl val="0"/>
      </c:catAx>
      <c:valAx>
        <c:axId val="6501119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59049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1F26-7DA3-4915-8145-14C828B95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D3DB-1CDE-44AC-87DD-EEE8E32FB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0711-39BB-4029-854F-C83944D71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8411-01F8-4AC9-998F-A578DFB11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A6B8-8E4B-499D-9DE9-B9C943930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EBC1-7DA7-456A-BA07-730C67182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F3CD-D87A-4CBB-9EC0-2F3C0A94E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2CE6-B147-4670-815A-4B50260CB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2301-0DDB-4A91-BAF8-D244F87E3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AFC9-5628-4F10-8C6D-551FABAE8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CD81-A0DC-4021-8A0E-2CFFF380B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23BA-B10E-4EB7-BF53-F40351A7F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18ADAC-61DE-42C0-98A0-E7576212128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