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05772"/>
        <c:axId val="66675802"/>
      </c:barChart>
      <c:catAx>
        <c:axId val="53205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75802"/>
        <c:crosses val="autoZero"/>
        <c:auto val="1"/>
        <c:lblAlgn val="ctr"/>
        <c:lblOffset val="100"/>
        <c:noMultiLvlLbl val="0"/>
      </c:catAx>
      <c:valAx>
        <c:axId val="66675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05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184-7A17-49B8-919C-10EE8E9F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D41-FD93-4C9D-AEA6-BE565489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256-6818-4139-8BCE-88FADAAA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343-D056-4BC0-9032-879CFDCD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112-6486-402A-99CF-FD0B665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ED2-E2F5-471B-ACFA-DC2C0EFB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ABC-94F3-4C1D-835A-4353DE8B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86F-3FFF-4932-B98D-78998D56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E85-6D4A-4238-9EF6-4B07C60B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AAB-113C-44B9-B0AB-DF2370AF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AD3-DEC4-45B9-A0AE-040BB94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077-22D8-4156-833D-39CA6FC8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2DB5F-62C1-4E95-905A-9B2ABEAB60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