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89558"/>
        <c:axId val="1179360"/>
      </c:barChart>
      <c:catAx>
        <c:axId val="39489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9360"/>
        <c:crosses val="autoZero"/>
        <c:auto val="1"/>
        <c:lblAlgn val="ctr"/>
        <c:lblOffset val="100"/>
        <c:noMultiLvlLbl val="0"/>
      </c:catAx>
      <c:valAx>
        <c:axId val="1179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9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59A-6FD9-4E03-AC9C-2D85F0FE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716-0916-409F-B8EC-677C927B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E03-55DC-4C36-AAD9-CE490D21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744-B573-4C40-95DB-0BA50805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05C-4AEC-43B3-81ED-70EF86C2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470-D658-4405-A0CD-EB32FB1F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94B-0AE5-4E74-913F-7E04259C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CCA-8B15-452B-8DAD-42C0A113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AFB-58D2-46D9-A33E-9D8EA31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E36-D562-44D7-9E50-3780150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017-9BC8-424A-942A-ED2D655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D94-1029-4395-99D4-2FF59F74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B5A25-AF08-43EE-A773-2EC45D35E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