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6597646"/>
        <c:axId val="54845963"/>
      </c:barChart>
      <c:catAx>
        <c:axId val="9659764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845963"/>
        <c:crosses val="autoZero"/>
        <c:auto val="1"/>
        <c:lblAlgn val="ctr"/>
        <c:lblOffset val="100"/>
        <c:noMultiLvlLbl val="0"/>
      </c:catAx>
      <c:valAx>
        <c:axId val="5484596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59764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E52E-0EA2-41F1-909F-390F72E70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2FCF-32CF-4B58-BE6F-CAE2430FE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FEDA-6085-442C-BFB0-B1493AE8C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9D56-16B4-4E92-9504-9630465B7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C1EC-0E4A-4A7A-B069-E40585F21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9C40-0698-4704-B73D-0F50B088B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C014-3C2B-4764-911E-E2C082FA1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A243-F2B8-4ABB-877A-C1F6D3C91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BD1B-B5CB-40C9-9E1D-12C0F2EA8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DDF8-1C32-40BE-AC94-7C803B25A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D26A-C92E-4828-AFC1-AD96BC956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E433-1DB0-4D24-9803-EE22E4727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DAE099-D0C5-4569-9D97-6ABD10FBB39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