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32642"/>
        <c:axId val="9711302"/>
      </c:barChart>
      <c:catAx>
        <c:axId val="49532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1302"/>
        <c:crosses val="autoZero"/>
        <c:auto val="1"/>
        <c:lblAlgn val="ctr"/>
        <c:lblOffset val="100"/>
        <c:noMultiLvlLbl val="0"/>
      </c:catAx>
      <c:valAx>
        <c:axId val="9711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2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21C-70C4-4271-BEC8-9BC21948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05A-A092-48E5-A661-FB57D52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181-8734-4D3D-9884-544E5573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B21-4F89-4787-913F-B1236246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0A6-D0F8-41A2-B338-74E78C6B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FF2-C4BD-4358-88C8-27612CE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D7A-6979-4CF4-A938-61A414F7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DBE-5879-4065-942A-4A036FE6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BD5-9E47-45A3-A882-F947E194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84F-F476-4182-B7AA-C543B7C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E15-5D03-4B77-92D7-F456E56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00E-B18C-4710-B9A9-1C89341F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60156-4450-4687-83A0-D08C65928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