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55252"/>
        <c:axId val="99498217"/>
      </c:barChart>
      <c:catAx>
        <c:axId val="43355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98217"/>
        <c:crosses val="autoZero"/>
        <c:auto val="1"/>
        <c:lblAlgn val="ctr"/>
        <c:lblOffset val="100"/>
        <c:noMultiLvlLbl val="0"/>
      </c:catAx>
      <c:valAx>
        <c:axId val="99498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55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729F-FC9E-4BD0-8ECE-F6073819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E97-52CD-445D-B989-B230716C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BC26-97F4-4AEA-8DA8-E4E63219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8A8-E7B1-42AB-89CF-83C5FF3D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9E7-2D49-4CE6-A0CD-31DCCB89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ADB-AED3-430E-9079-4147A9DA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D73-D910-409C-8DA2-277C2C54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FB7-A3BF-4C0F-9231-6118D902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DC9-A657-4A66-9376-2E822CE4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684-2FF7-4A62-B167-2B197176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BDF-F352-4F2B-AF71-CE61AB0A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AB6-295A-4891-95D6-800A8AC5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49681-A49D-406E-AFFB-0BE72BCFFD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