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97250"/>
        <c:axId val="63880717"/>
      </c:barChart>
      <c:catAx>
        <c:axId val="36797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80717"/>
        <c:crosses val="autoZero"/>
        <c:auto val="1"/>
        <c:lblAlgn val="ctr"/>
        <c:lblOffset val="100"/>
        <c:noMultiLvlLbl val="0"/>
      </c:catAx>
      <c:valAx>
        <c:axId val="63880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97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17C-0985-4F14-9925-9597E309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3DF-C51C-49FC-B088-0A0EC471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A8E-C1A8-4A78-9189-4CB1566D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4A7-982F-4AEB-93EC-D756ED54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CB1-2FD3-4C03-9DFB-8F019200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6BF-4180-4C14-A630-714CB4B9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C3B-04F5-4C0C-9769-152A9124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B1D-2405-42ED-8EEE-AE87FAAB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BE3-DE2C-4FB8-B540-4C479CDB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EBD-ED23-417E-B7CB-9CBE6AE7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DAF-65CE-471B-8372-481685B3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FE2-F8B9-49EE-974C-515CB10F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550B6-AB63-402F-A453-E251059B9E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