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390898"/>
        <c:axId val="6923683"/>
      </c:barChart>
      <c:catAx>
        <c:axId val="233908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3683"/>
        <c:crosses val="autoZero"/>
        <c:auto val="1"/>
        <c:lblAlgn val="ctr"/>
        <c:lblOffset val="100"/>
        <c:noMultiLvlLbl val="0"/>
      </c:catAx>
      <c:valAx>
        <c:axId val="69236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908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907C-6753-4997-8903-F3ED5B656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FE18-2758-488F-9625-7B1C7DED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5EDC-4754-429A-96C6-28AF7AA45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106E-0CFE-4DE0-ACF6-97629E74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2633-2504-45FF-8B08-0DE9ABD7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7C92-A641-4B4E-BF77-3F7998F4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2556-4503-4E50-B46C-A6E4809F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3A97-A0F1-4473-92AB-CA75E502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9FB8-196D-432A-A568-F42B0DD2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75D7-D174-4BE4-9310-C537B4A3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7F4B-F9CA-413D-BB26-BA5A502A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C5D4-8F72-4639-AD36-B25EF217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C09C5-EADF-4A05-923A-DE8961261C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