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40286"/>
        <c:axId val="18334142"/>
      </c:barChart>
      <c:catAx>
        <c:axId val="385402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34142"/>
        <c:crosses val="autoZero"/>
        <c:auto val="1"/>
        <c:lblAlgn val="ctr"/>
        <c:lblOffset val="100"/>
        <c:noMultiLvlLbl val="0"/>
      </c:catAx>
      <c:valAx>
        <c:axId val="183341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402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728B-108C-484C-A667-2ACD22A2D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E79A-67C0-465B-A880-90C5C13A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FDA-5666-4F8C-9614-029FBB80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5B9-D9BC-4D3C-87C1-E05E4099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ADE8-88AB-4C71-8437-3299767A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FEF8-7111-4B83-A08A-30049F69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9E4-D63D-4362-A4C5-9EC31A01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CC51-B557-4817-868A-4EA97912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9B3-4037-465F-9188-9F5E6D20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82C0-98AE-42F5-9B7B-7B09C60B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9DC-B977-4C3A-883A-FBA1B2C4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C8E-69F4-483C-812A-80AAF78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7D75E-EBE7-4E45-88E7-2F789C2C5F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