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45113"/>
        <c:axId val="97764210"/>
      </c:barChart>
      <c:catAx>
        <c:axId val="72245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64210"/>
        <c:crosses val="autoZero"/>
        <c:auto val="1"/>
        <c:lblAlgn val="ctr"/>
        <c:lblOffset val="100"/>
        <c:noMultiLvlLbl val="0"/>
      </c:catAx>
      <c:valAx>
        <c:axId val="97764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45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9CB-85DA-401C-8659-1E9355E3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158-219D-4A4E-8160-D9880C9F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71F-0EC0-4CC0-B5F0-0128F4DD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977-3942-4D80-82D7-96EDE186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612-F1EA-4B9D-AE1C-AA83544B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B7C-D5B2-48CD-8337-B1B2A7ED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18F-532B-4464-8CB6-1D0A9265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973-6865-4D7F-A31A-C76EDCC8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71F-36F4-4E0D-A6A9-13C5B03C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41D-28C6-4798-A49D-46C0085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8E2-502C-4148-B9C3-22939E1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EF8-1E33-42A5-AF48-AEA002B4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C62B0-F748-4B86-98F4-3A57CB4979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