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13751"/>
        <c:axId val="84782813"/>
      </c:barChart>
      <c:catAx>
        <c:axId val="43913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82813"/>
        <c:crosses val="autoZero"/>
        <c:auto val="1"/>
        <c:lblAlgn val="ctr"/>
        <c:lblOffset val="100"/>
        <c:noMultiLvlLbl val="0"/>
      </c:catAx>
      <c:valAx>
        <c:axId val="84782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13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E6B-A85B-41AF-B5F0-7C5D0656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32D-F02B-430D-BB11-13C50CC3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A73-D1D3-4F14-B5F8-6D634B11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7AB-ABF9-40EC-89B6-F1B9CC91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B7D-04B5-41C8-AF51-B823BCFF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1B4-65F9-4607-B331-792CD594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EAE-EFD8-4E64-9B0E-6D89FE0A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ACC-8537-450E-BEF3-1546DB66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AE4-269D-406B-A9D6-286748A4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D47-088D-4015-B9BB-2084DDAB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49A-7860-4364-A637-D663E90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EF8-0A37-4517-A88D-73865F4E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7578F-4F4C-43C1-A194-17A3A4E01D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