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12499"/>
        <c:axId val="23806426"/>
      </c:barChart>
      <c:catAx>
        <c:axId val="53912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06426"/>
        <c:crosses val="autoZero"/>
        <c:auto val="1"/>
        <c:lblAlgn val="ctr"/>
        <c:lblOffset val="100"/>
        <c:noMultiLvlLbl val="0"/>
      </c:catAx>
      <c:valAx>
        <c:axId val="23806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2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0E9-5725-4718-8431-82EA3DB1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63C-23AC-42F7-86C6-D598EAD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D60-70F1-4982-A0D9-C070415D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92B-09FC-4056-A5EE-0059D873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CD0-85D6-46D8-87B5-09E069E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FF8-5C6F-4EC1-8FF7-E33D193D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322-0FB9-4C1B-94A4-9D2F3A6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55F-9326-4C74-BE85-A1B35B6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9AA-9682-4C84-A160-380086C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B74-9EF0-4463-B3EF-CFBF3BD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6E1-3E57-4452-BBD0-A6F9BF8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395-BA0B-4C0D-9637-3E7F538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F65F0-3075-4431-8D47-BD9925FDA8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