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547765"/>
        <c:axId val="15873150"/>
      </c:barChart>
      <c:catAx>
        <c:axId val="37547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73150"/>
        <c:crosses val="autoZero"/>
        <c:auto val="1"/>
        <c:lblAlgn val="ctr"/>
        <c:lblOffset val="100"/>
        <c:noMultiLvlLbl val="0"/>
      </c:catAx>
      <c:valAx>
        <c:axId val="15873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47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C50-56A2-4211-9BA0-3B6389DF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629-A33C-4E18-8BED-5FA84F9D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C88A-7020-42D3-A703-B5268943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1E4-A791-4264-A816-095DC5DC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A19-1033-4DD4-8DDA-A981225E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AD9-4771-4933-A96F-53F322D4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A4A-A5DB-4EF9-A91F-363E11F8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DDA-5680-49A0-8D82-F32091D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F94-0CA6-42E0-83E9-62B9E8C0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12C-7DBE-48B4-80B3-7C45E6F3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D39-F1F7-4871-AC8B-5B5E2758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9C7-E5D5-40AD-9C80-EB582FDB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6DCF6-AB86-4C1A-9B73-51BA4B1DB0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