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86586"/>
        <c:axId val="99409029"/>
      </c:barChart>
      <c:catAx>
        <c:axId val="28386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9029"/>
        <c:crosses val="autoZero"/>
        <c:auto val="1"/>
        <c:lblAlgn val="ctr"/>
        <c:lblOffset val="100"/>
        <c:noMultiLvlLbl val="0"/>
      </c:catAx>
      <c:valAx>
        <c:axId val="99409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86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7B7-B293-4402-A3C7-902657E6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174-2561-434E-B7C9-3A264DE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93E-5DCB-42A3-8DD0-F84BD3FC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BD6-5A2C-48CF-B9E3-66D24CCC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A02-6D2F-40FB-8639-6395AFF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4B7-6D27-4CB4-AA86-3F36535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CAE-6EC4-443C-B78B-8F79F2B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4E2-A7F2-45D4-9DEE-59CBE18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13E-B21A-4E1D-BD5B-F1F1FB84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82B-8B2D-46F0-9A76-EF23B54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441-6CE6-4F2A-912E-AA76BC5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6DF-4A51-486B-9CEA-E761406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D70EE-D0D5-4BAC-83AC-B2637BC64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