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56513"/>
        <c:axId val="59878770"/>
      </c:barChart>
      <c:catAx>
        <c:axId val="24156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78770"/>
        <c:crosses val="autoZero"/>
        <c:auto val="1"/>
        <c:lblAlgn val="ctr"/>
        <c:lblOffset val="100"/>
        <c:noMultiLvlLbl val="0"/>
      </c:catAx>
      <c:valAx>
        <c:axId val="598787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56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0A3-E24E-435C-AB2C-14A9395EE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D3A-3E59-4E8B-9C9E-CA8A5214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55F-2151-4335-B36A-36C1BB99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DFA-7DD3-4E3E-89D7-011F674A2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B42-117E-444C-B644-A2E3F716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6C1-933E-4838-8331-FAD2513C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896-095B-4EB8-BE50-18FBAA468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341-6886-4B8C-8C33-BA21B225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ECBE-4BAB-46FA-8AC2-9245B00B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AE2F-317E-45D4-813E-BA58998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9F2-23AC-4F91-A200-1735BA05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9E8F-B688-41C6-8FC9-F38A9433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0E9D1-E9E1-48A0-9284-0C01E86933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