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1283440"/>
        <c:axId val="81924402"/>
      </c:barChart>
      <c:catAx>
        <c:axId val="312834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924402"/>
        <c:crosses val="autoZero"/>
        <c:auto val="1"/>
        <c:lblAlgn val="ctr"/>
        <c:lblOffset val="100"/>
        <c:noMultiLvlLbl val="0"/>
      </c:catAx>
      <c:valAx>
        <c:axId val="8192440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834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8943-C6BA-44BB-A426-6BBAF3777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B1215-AE1E-40EF-8445-5189B945A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A4DEB-2344-4381-AA3F-2D0993D8A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6E94-E35C-4198-AABA-962EA41A0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7056-FF16-4D31-AB9B-35C4351CA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5E2E5-2A5E-427B-89F4-BEFDBEE58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F82D-5F10-476F-B20A-9747F6023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5553-A7ED-4CD2-8901-C405172EC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8319-AF70-45C0-9EF4-2C025C888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349D8-0319-4B96-B695-3885806D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CE86-89D9-4E6D-8CD7-8745D9FF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E139-E6F6-4AC5-BC27-5D846BD30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D1CBE7-F3FD-4A31-BCB6-BB64C58991A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