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14060"/>
        <c:axId val="8277080"/>
      </c:barChart>
      <c:catAx>
        <c:axId val="64014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7080"/>
        <c:crosses val="autoZero"/>
        <c:auto val="1"/>
        <c:lblAlgn val="ctr"/>
        <c:lblOffset val="100"/>
        <c:noMultiLvlLbl val="0"/>
      </c:catAx>
      <c:valAx>
        <c:axId val="8277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14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90B-13B5-442D-95D0-DFB71E9E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8F6-2F69-41A4-8FD6-E88DEFE0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EBD-CD05-4B7D-9235-13AAC4DC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5B2-5898-4EF8-9631-D4A4E792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ECF-F8ED-4247-9932-0FE1A23B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4EB-F97F-4F05-8593-947B9510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325-2269-4306-A52D-800B6119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276-4365-4D89-9587-CB6E8945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421-A4C5-477C-88E0-C297F269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6F5-CF67-4B1E-860E-C96FE2B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CCB-4E57-4FD3-B22A-13DDBFB2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805-2FAB-46B9-9D42-32150FA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BACEC-FCE8-457D-9682-9CC531D6A8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