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67901"/>
        <c:axId val="4185976"/>
      </c:barChart>
      <c:catAx>
        <c:axId val="50567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5976"/>
        <c:crosses val="autoZero"/>
        <c:auto val="1"/>
        <c:lblAlgn val="ctr"/>
        <c:lblOffset val="100"/>
        <c:noMultiLvlLbl val="0"/>
      </c:catAx>
      <c:valAx>
        <c:axId val="4185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67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AC1-66D9-437C-BE5C-ABBDF4CA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0B7-C47B-441B-8F14-0B601751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3CA-0F45-40D9-B872-7621A610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B90-0D9B-4824-81DB-0C195CF8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4AF-19CB-4DA8-9EB5-2C8952CB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A15-9BE1-4CDB-A013-CA04FE99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E81-1FBB-4E27-9304-A29F08DD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CCC-E031-4552-ADC8-576013A6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CC1-36AC-4A72-84EF-C9F2EE63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3F3-63D9-4200-8D69-9DEF1C6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B89-EC79-4CAA-8875-8F376E85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B3D-3BB7-480D-9E93-5BD6BDA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3C509-5C33-4C79-BDE5-1EC9EB6398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