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9288860"/>
        <c:axId val="96726223"/>
      </c:barChart>
      <c:catAx>
        <c:axId val="4928886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726223"/>
        <c:crosses val="autoZero"/>
        <c:auto val="1"/>
        <c:lblAlgn val="ctr"/>
        <c:lblOffset val="100"/>
        <c:noMultiLvlLbl val="0"/>
      </c:catAx>
      <c:valAx>
        <c:axId val="9672622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28886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5337-2B8E-4579-8C5C-A77B95A14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C61B-D7A0-40D3-B978-FF5DAB5A8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08D4-E9BF-4F4E-8EA6-38CAF1D74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83E7-6DA1-4BBF-AFE4-AC66442A4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231C-01FD-4589-9CC4-D9DA0B603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4CAD-F79A-4F00-AD34-96A193759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2F9D-035D-4D4C-9A77-6AB2DCCE2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64CD-952E-40A3-AC3C-6D6130043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5296-B1AC-4549-A344-C7E3744BB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8A69-D242-46B6-92BE-E5F6EF168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6E3E-2713-4726-9A0B-4C9B47676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620F-AAD0-4841-B605-83FE2BF21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3F6060-C493-46A3-8549-F7C179FD7E2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