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44138"/>
        <c:axId val="28014421"/>
      </c:barChart>
      <c:catAx>
        <c:axId val="73944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4421"/>
        <c:crosses val="autoZero"/>
        <c:auto val="1"/>
        <c:lblAlgn val="ctr"/>
        <c:lblOffset val="100"/>
        <c:noMultiLvlLbl val="0"/>
      </c:catAx>
      <c:valAx>
        <c:axId val="28014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4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0A8-2FD9-46D7-B90D-25E841BA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191-1E24-4755-ABA7-77C021A4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C21-8EBB-49EB-8DF0-25CE1811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860-E905-4E78-99DF-5DF368C6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E80-9153-44DE-991D-85164802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B03-1C7C-4121-97ED-7198826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7CA-FD57-4B57-BE70-033B2F1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9B0-0B53-4864-AF53-DEA192A2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723-8D87-4A35-85B2-342ED81F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731-38E8-4104-904A-555A37CB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7B6-768E-4503-813B-5F8AAFB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987-00A5-46FC-A4BA-49716CF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B01AB-EF6B-4D9D-99DA-BD7A24E92B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