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38468"/>
        <c:axId val="39805454"/>
      </c:barChart>
      <c:catAx>
        <c:axId val="97238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05454"/>
        <c:crosses val="autoZero"/>
        <c:auto val="1"/>
        <c:lblAlgn val="ctr"/>
        <c:lblOffset val="100"/>
        <c:noMultiLvlLbl val="0"/>
      </c:catAx>
      <c:valAx>
        <c:axId val="39805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8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DA8-7D27-4B67-A97E-6597C0ED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83E-43EC-458E-9565-3CCA4856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3B1-4D7E-47C7-A8FC-ADA6B14D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1B6-A4FA-4EBF-ADC3-BA26302F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8F3-E323-40A5-9FF7-99BCF4AC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707-35E7-45D8-B050-975C0544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1D9-0217-46A2-A0CB-67B50B9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7C2-17D6-436B-9436-BDAB965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7B8-2835-4688-8ADD-6E11F636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A8A-BFF2-4C2B-8683-F4D965E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A23-B376-403D-A83B-E89FDBA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27A-520B-4383-8E48-E23266B4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69DCC-950A-48DA-B5DA-BCFC6521C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