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46764"/>
        <c:axId val="47353335"/>
      </c:barChart>
      <c:catAx>
        <c:axId val="96846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53335"/>
        <c:crosses val="autoZero"/>
        <c:auto val="1"/>
        <c:lblAlgn val="ctr"/>
        <c:lblOffset val="100"/>
        <c:noMultiLvlLbl val="0"/>
      </c:catAx>
      <c:valAx>
        <c:axId val="47353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46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77A-1FAE-4C68-B045-E96A9B37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4FC-CD71-43E5-9B7F-05C9CB4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4A9-E6E9-430F-A4DF-935F0CB6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A13-34E7-44F0-91EE-C251C9DF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510-77F8-47E7-97AF-B67A9269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E11-99A1-4D62-A20E-35DCE7B0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343F-664D-4C90-BDF5-637AAC5D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F5ED-D277-49AD-BA05-D5AACB9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1450-38A2-4E75-983D-412CDB7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4E8-041F-48B7-9183-ED1139A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AEE-9956-4388-BB8A-A846293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42E-CD6B-4D8C-A8ED-1E00015D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F8013-275C-44C3-AA0B-07CBBDC261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