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46125"/>
        <c:axId val="31528848"/>
      </c:barChart>
      <c:catAx>
        <c:axId val="44046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28848"/>
        <c:crosses val="autoZero"/>
        <c:auto val="1"/>
        <c:lblAlgn val="ctr"/>
        <c:lblOffset val="100"/>
        <c:noMultiLvlLbl val="0"/>
      </c:catAx>
      <c:valAx>
        <c:axId val="31528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46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D09-D0D8-4402-9964-0DF9BF3E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E9E-A471-45BA-864A-B12AE0B9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00D-CF6A-4BD2-9222-1A7E4BA7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099-6F5E-4986-881F-BB31FB02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1FA-4098-4181-A0E3-B218CAB9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BF1-9DA9-479B-AC1E-940FFD80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45B-44DD-43B7-A708-87F36BB5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DCD-10A5-432E-91EC-07D390ED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794-7002-4A7A-A06E-ECA4B7B3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5E7-D4E6-481C-976A-92A497E8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FE5-F2DF-46D1-A908-E58FCD81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E20-F61A-42DA-AD14-A4B68DC4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B39C5-0BFE-44FA-9C1F-F56AB45084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