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206"/>
        <c:axId val="37406249"/>
      </c:barChart>
      <c:catAx>
        <c:axId val="766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06249"/>
        <c:crosses val="autoZero"/>
        <c:auto val="1"/>
        <c:lblAlgn val="ctr"/>
        <c:lblOffset val="100"/>
        <c:noMultiLvlLbl val="0"/>
      </c:catAx>
      <c:valAx>
        <c:axId val="37406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DA7-2679-40D1-8F05-2E31A699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F5E-1D82-4BA2-B9AF-09BDCE27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AE6-4FB0-4D8A-956A-27093E1F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9F2-FF07-4AD1-87EE-6ABAF6B5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467-76A8-40B1-9788-247F7DC9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0EA-040D-47AB-82CC-7D87C07F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BE3-677A-4B2A-A136-71BE36C9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093-4675-4814-84AB-735CD5A5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179-2A0F-4BBE-BD5D-2EAD433F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902-5453-4D3B-8562-C4A41BAC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CA6-D0DC-4421-B774-0212AB36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B17-432E-4EED-8E19-0E450E28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65155-7411-4391-9686-7933506868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