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46265"/>
        <c:axId val="93537091"/>
      </c:barChart>
      <c:catAx>
        <c:axId val="88846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7091"/>
        <c:crosses val="autoZero"/>
        <c:auto val="1"/>
        <c:lblAlgn val="ctr"/>
        <c:lblOffset val="100"/>
        <c:noMultiLvlLbl val="0"/>
      </c:catAx>
      <c:valAx>
        <c:axId val="93537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46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AD6-B60D-4B81-8DC7-D529AD6B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116-9FA8-4081-BDD1-EB0240C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BC1-493F-4EB6-98F3-2BDE003C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29F-6AD3-44E7-A2DA-EE1A8CBE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C477-2115-41F8-8E50-09193EB7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097-BDE2-42BB-AF85-9B5277BC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637-FF85-4524-88BD-FD65DE36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D35-58E6-40B1-BA82-02F01D06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A87-BB50-47DD-ACD7-FF4564D6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260-411E-4696-A61B-F409177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F4C-C018-4343-9D33-398D6CFE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EFF-2A5E-45A0-A8B5-8B2B9C08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B74F1-3D28-4CDF-BC28-E7044DF0DD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