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12309"/>
        <c:axId val="80258744"/>
      </c:barChart>
      <c:catAx>
        <c:axId val="79212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58744"/>
        <c:crosses val="autoZero"/>
        <c:auto val="1"/>
        <c:lblAlgn val="ctr"/>
        <c:lblOffset val="100"/>
        <c:noMultiLvlLbl val="0"/>
      </c:catAx>
      <c:valAx>
        <c:axId val="80258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12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EE5-BB19-43F2-8945-ACF466A3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318-421A-4BB7-BEC6-2C41C540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500-6EC9-4BBA-B1B9-6502ADA5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93A-A3DA-411C-8F64-7B867539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FBD-7FD7-4479-99DB-335AE513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037-6C4A-411F-B5FC-DDFD5DE7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2DB-EF45-4B70-8617-20907C95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B30-1EFB-45FA-BA31-B561BECE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73D-47F7-4E2B-A234-A2C79CC4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3D2-140F-413B-A1BE-6D0AC7C4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EA2-A479-464D-9DF7-8D1ABF86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33D-5E89-443E-940C-1053D923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9C180-F1F9-468B-8343-C2C9917410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