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21755"/>
        <c:axId val="93693838"/>
      </c:barChart>
      <c:catAx>
        <c:axId val="58521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93838"/>
        <c:crosses val="autoZero"/>
        <c:auto val="1"/>
        <c:lblAlgn val="ctr"/>
        <c:lblOffset val="100"/>
        <c:noMultiLvlLbl val="0"/>
      </c:catAx>
      <c:valAx>
        <c:axId val="93693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21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185-DC81-4FD5-8528-CEF9551A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475-719E-4404-8AF6-8EEB5D3F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8B8-8150-49DD-9C5C-2F7C4D9D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508-3A14-4DF0-8F47-DF89C9FE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76B-4335-4E6C-B3CB-871FCE6B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7AB-D428-4C22-A42D-EAF1D5C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349-43EE-4461-ABEB-E40A3EEA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1E7-AFEA-4341-BFF4-0EE54195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021-7990-4B7C-8564-A4828136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614-A59C-47FB-A492-CCE0EFA0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11B-EC95-4775-B547-63D5E8E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BEB-AA73-4A47-97F3-AE6AF0E7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4C5BC-7AF5-4E05-81FA-8A8FFB5075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