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82406"/>
        <c:axId val="7562157"/>
      </c:barChart>
      <c:catAx>
        <c:axId val="50782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2157"/>
        <c:crosses val="autoZero"/>
        <c:auto val="1"/>
        <c:lblAlgn val="ctr"/>
        <c:lblOffset val="100"/>
        <c:noMultiLvlLbl val="0"/>
      </c:catAx>
      <c:valAx>
        <c:axId val="7562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82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338-7303-4D36-A0F4-34A56A2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4EA-E1C0-4D0A-85CA-357D3FBC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C6A-1BB4-4916-BEF6-04F05BFE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276-FCBB-4B9E-AE8C-DFDF576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348-7297-4A5B-9AD5-0A68DC2C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FBC-DC1A-4FEE-9248-ECBDFAF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684-48E1-40C3-A1FF-8EAAA27C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865-B1ED-4D72-B13C-8AB2BD79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4AF-6E31-45C6-9AFE-F0EFBFFB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9A8-E4BF-4585-9842-A843A4F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C62-0E76-4148-AFA5-BB48503D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A6A-F680-4016-87EE-2904EE7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71F76-6959-4A1B-8FBF-C5CF7E94A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