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73955"/>
        <c:axId val="78050239"/>
      </c:barChart>
      <c:catAx>
        <c:axId val="93173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50239"/>
        <c:crosses val="autoZero"/>
        <c:auto val="1"/>
        <c:lblAlgn val="ctr"/>
        <c:lblOffset val="100"/>
        <c:noMultiLvlLbl val="0"/>
      </c:catAx>
      <c:valAx>
        <c:axId val="78050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73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F46-A03D-4039-8D7F-1F544BDB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8FE-F703-484E-936F-42EAF99A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CFC-49AF-49EF-8987-86F7629A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829-18CB-45DC-AA71-2CD44BF3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477-FDF7-4415-9AE6-8737CEE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C60-3BA5-476F-B68C-96DEF265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8EE-4897-4D53-9BE3-963E4843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181-0E73-42F8-B80F-59EEEFCB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7E5-C36A-43C8-8073-34BE7579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93E-2A21-4F7A-918C-F15E7BB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B86-180C-44B9-AFC5-3ADE35CC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210-FF84-49A1-B306-8AF4D6C1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AACF8-ACB6-488C-8298-544C77E039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