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11278"/>
        <c:axId val="65975215"/>
      </c:barChart>
      <c:catAx>
        <c:axId val="88011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75215"/>
        <c:crosses val="autoZero"/>
        <c:auto val="1"/>
        <c:lblAlgn val="ctr"/>
        <c:lblOffset val="100"/>
        <c:noMultiLvlLbl val="0"/>
      </c:catAx>
      <c:valAx>
        <c:axId val="65975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11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EFA-DE50-49F1-A239-63A2F07E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FA5-C97A-45B6-ACA6-9BABFA5F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DAB-20AD-415A-B132-43C3768A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29F-4EA3-4CEE-B0D7-0C52C968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868-AC45-4AF6-9EAA-2C32CF0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9A6-6B92-4245-B496-D3B5D7F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372-7E49-4CC5-A053-065F1FCA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4C9-B284-4F45-9976-4CD13B71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24B-BFF8-4D42-9E7A-EF7897E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0C5-377E-45C4-8F52-E85E5ED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A3E-E404-4FCF-9042-3C79AAFC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DC5-995B-41AD-8084-73C5B95A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E8242-4BEB-41C9-8C76-37620DF28B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