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11875"/>
        <c:axId val="70370744"/>
      </c:barChart>
      <c:catAx>
        <c:axId val="37411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70744"/>
        <c:crosses val="autoZero"/>
        <c:auto val="1"/>
        <c:lblAlgn val="ctr"/>
        <c:lblOffset val="100"/>
        <c:noMultiLvlLbl val="0"/>
      </c:catAx>
      <c:valAx>
        <c:axId val="70370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11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46C-0957-498B-A37F-55E63CCA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9A8-E0E1-48AD-8650-5D1CC802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B00-023E-4F26-A68E-D8A6F75E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2B3-2C02-4103-B24B-60014306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D5B-83A6-47B6-A68F-47C5972F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A17-9819-47E8-B83C-F9C0AA35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778-F30C-44BE-8CB5-8674D08A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813-3BED-4693-B3E1-107C5B8D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71E-1DD2-498E-B373-FACA626A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DDF-F19B-4E9E-B9CD-9EBEB625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A9B-F762-4D53-89A0-B0C25CBF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E67-30CE-4A99-A70E-1E722CB5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E02CB-56A2-428D-993D-994314CFB5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