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38126"/>
        <c:axId val="40908783"/>
      </c:barChart>
      <c:catAx>
        <c:axId val="838381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08783"/>
        <c:crosses val="autoZero"/>
        <c:auto val="1"/>
        <c:lblAlgn val="ctr"/>
        <c:lblOffset val="100"/>
        <c:noMultiLvlLbl val="0"/>
      </c:catAx>
      <c:valAx>
        <c:axId val="40908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381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B833-A471-41D8-9A77-576331B2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DB92-5086-4B6E-934A-93D2A931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1342-202B-4E9E-A1AF-2A57345B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C903-2541-4EC6-B1AB-2D184CBC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4AF-16FF-4488-9CAE-6E9EBE86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A7DA-BEA6-4A1A-902B-58D2BC0D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1750-7415-45CD-AF48-543B787B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6627-54B5-45A0-9674-74CF1294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C49-E53D-40CF-B439-AEA188EB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11BA-62BB-4EC6-8A32-DF0EB5E8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08A-7B19-4AF4-B6BF-59AF53C9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B07-A86A-4CB4-9CDA-C3BE1FBC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3A581-BD01-481E-9068-1B71997F6F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