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72815"/>
        <c:axId val="64617265"/>
      </c:barChart>
      <c:catAx>
        <c:axId val="959728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17265"/>
        <c:crosses val="autoZero"/>
        <c:auto val="1"/>
        <c:lblAlgn val="ctr"/>
        <c:lblOffset val="100"/>
        <c:noMultiLvlLbl val="0"/>
      </c:catAx>
      <c:valAx>
        <c:axId val="64617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728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5DB-FC65-4402-A75E-880439C5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3F3-990A-49BB-9AD3-95A49791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F26-1E38-4221-B7F0-217E826E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B48-BF39-40CD-A2E9-590E8E7E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50E-FD61-4136-BA7F-A47B81EE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FB3-DDE1-4D79-BC65-9D33AD7B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104-987E-47A9-A4EC-6BC6E64D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3DB6-ED88-4F06-B48E-DDB553C4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A66-3D7B-4B61-8A83-ED1A7D42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528-6724-4D1C-AA92-BE2DD914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567-D014-4B6F-95B1-CFF0D707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9A4-F383-44D1-980C-4BFA97CC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A6F91-DE9C-48C5-9B15-F95AA09DD4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