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565"/>
        <c:axId val="28705091"/>
      </c:barChart>
      <c:catAx>
        <c:axId val="215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05091"/>
        <c:crosses val="autoZero"/>
        <c:auto val="1"/>
        <c:lblAlgn val="ctr"/>
        <c:lblOffset val="100"/>
        <c:noMultiLvlLbl val="0"/>
      </c:catAx>
      <c:valAx>
        <c:axId val="28705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6D7-6F3D-4059-8645-B8E36D40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F70-9A04-464C-9E6A-762B6237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375-798A-4AA5-8501-71C81540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028-7B5B-48DD-A2D8-51E9D5F0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9CB-1200-40CB-A6CC-5CC09975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7A2-570D-4108-8F6F-47F7B624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A67-C356-4D37-803A-976CBE6F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E98-9C77-4962-9025-D0767F17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B47-2336-4882-90A7-C0DB0A1C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DDC-6600-491C-9E75-964237A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222-1E6B-4A9E-A9A3-36CD4191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F53-35D8-4CB0-8232-3619D59B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8AE3A-4351-4532-8804-F6EDDF3087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