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69437"/>
        <c:axId val="7154952"/>
      </c:barChart>
      <c:catAx>
        <c:axId val="54069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952"/>
        <c:crosses val="autoZero"/>
        <c:auto val="1"/>
        <c:lblAlgn val="ctr"/>
        <c:lblOffset val="100"/>
        <c:noMultiLvlLbl val="0"/>
      </c:catAx>
      <c:valAx>
        <c:axId val="7154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69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54B-09E9-4DB4-9B73-4D81D3D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86C-9864-42E0-9DB3-82EE579F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4E0-783D-4F28-B326-E4DE979C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51A-082C-4330-BDC1-68EBFE5E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0D1-939A-41B1-BAA5-CE7660B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ACD-7D72-459B-9001-26F185FA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E92-0A6C-49B3-979F-D8C1B2C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9E4-1CF5-4F77-AC99-2DD45EDA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F4C-13B7-405B-826C-126451C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CE3-26BC-4F57-A950-F2816B2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5F5-D872-410E-BAD6-F0248AF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2AC-FFAC-4D2C-949A-08682AD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BCF56-2981-485C-8A72-6ADA8B0F1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