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30469"/>
        <c:axId val="42238911"/>
      </c:barChart>
      <c:catAx>
        <c:axId val="44630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38911"/>
        <c:crosses val="autoZero"/>
        <c:auto val="1"/>
        <c:lblAlgn val="ctr"/>
        <c:lblOffset val="100"/>
        <c:noMultiLvlLbl val="0"/>
      </c:catAx>
      <c:valAx>
        <c:axId val="422389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30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42CB-4D26-4D28-AED2-AFCA1860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7CA-5614-45FF-9038-0D9A782B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609D-70F1-48E6-B26E-B0F4414D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84DD-9370-4068-8150-0E9919C1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05C3-EEC7-42AD-8AD7-D6C4F22F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CF6F-84B4-4E60-83A0-DAE6EC92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03B-AB3C-488B-9294-2EB7C3A3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87F6-6034-4A9B-9F80-71ED8B23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418A-5C01-4BF5-BE67-20A1698C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A729-C724-4F2D-89DC-E2E9F4ED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067A-ADD3-4A0B-A820-FABA1781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10F1-C330-4F8B-B112-1228F588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CE79D-E87C-45AA-8832-4FDCE2F989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