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09245"/>
        <c:axId val="93953769"/>
      </c:barChart>
      <c:catAx>
        <c:axId val="56209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53769"/>
        <c:crosses val="autoZero"/>
        <c:auto val="1"/>
        <c:lblAlgn val="ctr"/>
        <c:lblOffset val="100"/>
        <c:noMultiLvlLbl val="0"/>
      </c:catAx>
      <c:valAx>
        <c:axId val="93953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09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CD2-D289-47D4-A137-647BB99E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EDE-CAEA-4A6C-811F-CD3439C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F6B-2722-4E7E-AA6B-9005969D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CFF-130E-4BCE-A045-9143A554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82B-006D-4B7F-AA04-5DFD9AB3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BE9-BD62-45D3-8351-7EB8838A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E8F-027F-4964-AA0D-9DD0E038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A32-B0D7-417B-A362-87D9B520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81E-6096-4EF0-B16D-52FF0BB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2EC-36A1-43AB-969D-9BA470B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8EC-744C-4AA8-8750-4E289080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5DC-EB22-4FF6-ADE1-C52732E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8A585-9011-476D-8311-9202092B09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