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56757"/>
        <c:axId val="64658861"/>
      </c:barChart>
      <c:catAx>
        <c:axId val="73656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58861"/>
        <c:crosses val="autoZero"/>
        <c:auto val="1"/>
        <c:lblAlgn val="ctr"/>
        <c:lblOffset val="100"/>
        <c:noMultiLvlLbl val="0"/>
      </c:catAx>
      <c:valAx>
        <c:axId val="64658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56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15C-21E9-46C9-82EE-00121CDD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101-757A-473D-9E0E-573EAFE4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3FD-4A8F-4A57-A6EB-281950EE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BFE-F259-4056-8343-C9E14EB8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9CC-7D7D-4211-92CB-11839A08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570-BCB6-4108-93F1-6A63DFFC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561-4D3C-4664-919E-9F4321D6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BFF-72FD-4955-9512-79B6B1C3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C4F-2E10-40FF-85F0-EB414929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9CF-89A7-46AB-B44C-1E9D1209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FF0-FFA4-4BDF-AF34-E0DE3FB9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D77-D5E2-473A-8083-896E2913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985A0-0183-4E9F-A61D-0D1FC5905A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