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89915"/>
        <c:axId val="2609318"/>
      </c:barChart>
      <c:catAx>
        <c:axId val="80189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9318"/>
        <c:crosses val="autoZero"/>
        <c:auto val="1"/>
        <c:lblAlgn val="ctr"/>
        <c:lblOffset val="100"/>
        <c:noMultiLvlLbl val="0"/>
      </c:catAx>
      <c:valAx>
        <c:axId val="2609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89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1CC-A02C-4EEC-A717-3D80A566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EEE-769E-4D1D-BDCC-4887B3BD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11E-25C8-485B-8984-A07786D8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082-B5DF-448C-AA19-85486C5E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9DD-33BB-4387-A545-3A3EB3D8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764-AE15-4660-8293-CFC7EAA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BC3-8056-409C-921E-A9EA6DD2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6D3-AFEC-4B6D-BEBB-B5F5332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991-5967-48C9-B4AF-CCCD6E2B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385-DA71-44B4-816A-9493FB8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5F4-007A-4DAE-9C19-D009113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56D-9FAE-4921-9442-805F70CA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D1191-A2D7-4BDE-84E3-4FFBAEBC5E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